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A68-A6D4-4BB1-8250-E649CE38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197-AA57-42CC-931B-0A9AE543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FA0-2972-49C2-A42B-08C985ED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CAF-976C-42BF-BB30-68905245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957-7442-44FE-A794-61AF7980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8FAF-B194-4825-8C7E-4359A1C3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112-56D5-4395-B0C4-60C91D29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F50-CBEF-4776-94AF-86430124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B8C-A2D0-4F1F-B97C-C34CF9A6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13D-6C8A-404A-9085-0AD87589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104-77FD-4189-81DE-A266632C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431-7702-4F20-B164-3E8215BE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9E83-E353-41F4-A21A-BBFBC4994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news.xinhuanet.com/english/2009-01/31/xin_172010631153429610051.jpg&amp;imgrefurl=http://richarddawkins.net/forum/viewtopic.php%3Ff%3D1%26t%3D71250&amp;usg=__8QXRVeLAtfK4p2BHAa21FmgiN-U=&amp;h=374&amp;w=450&amp;sz=149&amp;hl=en&amp;start=1&amp;sig2=WLlKpfw4_QdInheaIbBwKg&amp;tbnid=XJ1yM_1aBTXXwM:&amp;tbnh=106&amp;tbnw=127&amp;prev=/images%3Fq%3Doldest%2Bwoman%2Bin%2Bisrael%26hl%3Den&amp;ei=OrvrSdyvGYGUMvK_6cw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ore4kids.info/uploads/Image/mom-and-daughter-reading.jpg&amp;imgrefurl=http://www.more4kids.info/category/parenting/single-parenting/&amp;usg=__lP2wCa5gugVRMkjuhGnJ5_NOBGE=&amp;h=250&amp;w=333&amp;sz=16&amp;hl=en&amp;start=13&amp;sig2=GxVKaHcQfIjQ3gtEd6UDww&amp;um=1&amp;tbnid=Co3piH7JNseqCM:&amp;tbnh=89&amp;tbnw=119&amp;prev=/images%3Fq%3Dsingle%2B%2Bparents%26hl%3Den%26rlz%3D1T4SKPB_enUS283US283%26um%3D1&amp;ei=AL3rSbjeC43AM7brpOQF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קצת  סטטיסטיקה  על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 ישרא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%       =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חוז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מוצע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ר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שפח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נישוא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=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גב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=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ספר הילדים ה</a:t>
            </a:r>
            <a:r>
              <a:rPr b="1" i="1" lang="he-IL" sz="6600" spc="-1" strike="noStrike" u="sng">
                <a:solidFill>
                  <a:srgbClr val="000000"/>
                </a:solidFill>
                <a:uFillTx/>
                <a:latin typeface="Arial"/>
              </a:rPr>
              <a:t>ממוצע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במשפחה  בישראל הוא:      (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781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4.4%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מהמשפחות ב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600" spc="-1" strike="noStrike">
                <a:solidFill>
                  <a:srgbClr val="000000"/>
                </a:solidFill>
                <a:latin typeface="Arial"/>
              </a:rPr>
              <a:t>יש ילד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אחד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 %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27.9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יש   שני   ילד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6.4%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יש  יותר משבעה ילדים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ספר הילדים ה</a:t>
            </a:r>
            <a:r>
              <a:rPr b="1" i="1" lang="he-IL" sz="6600" spc="-1" strike="noStrike" u="sng">
                <a:solidFill>
                  <a:srgbClr val="000000"/>
                </a:solidFill>
                <a:uFillTx/>
                <a:latin typeface="Arial"/>
              </a:rPr>
              <a:t>ממוצע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במשפחה  בישראל הוא:      (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781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4.4%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מהמשפחות ב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600" spc="-1" strike="noStrike">
                <a:solidFill>
                  <a:srgbClr val="000000"/>
                </a:solidFill>
                <a:latin typeface="Arial"/>
              </a:rPr>
              <a:t>יש ילד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אחד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 %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27.9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יש   שני   ילד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6.4%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יש  יותר משבעה ילדים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גיל  הנשוא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נשים יהודיות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24.5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בממוצ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נשים מוסלמיות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21.4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בממוצ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ברים יהודים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26.6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.   בממוצ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ברים מוסלמים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25.3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בממוצ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057400" cy="2655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2428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גיל  הנשואים  המינימלי בישרא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ESS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5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6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אישה  הזקנה  בישראל מתה בשנת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גיל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גיל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17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גיל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גיל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895480"/>
            <a:ext cx="35812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78%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מהמשפחות  עם   הורה   אחד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הורה   הו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אישה   או  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גבר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?       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3581280"/>
            <a:ext cx="2895480" cy="2167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62120" y="3429000"/>
            <a:ext cx="2171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   %  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מהבתים    בישראל   גר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_  ______  מקסימו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יש   אחד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ני אנש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לושה  אנש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42670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0:00:36Z</dcterms:created>
  <dc:creator>Preferred Customer</dc:creator>
  <dc:description/>
  <dc:language>en-US</dc:language>
  <cp:lastModifiedBy>aschlezinger</cp:lastModifiedBy>
  <dcterms:modified xsi:type="dcterms:W3CDTF">2010-10-14T18:29:42Z</dcterms:modified>
  <cp:revision>3</cp:revision>
  <dc:subject/>
  <dc:title>מספר הילדים הממוצע במשפחה  בישראל הוא:      (1998) </dc:title>
</cp:coreProperties>
</file>